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$0.25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863280" y="2590560"/>
            <a:ext cx="5156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me from all across Americ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ved in small camps or mining tow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ery few “struck it rich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d to pay large amounts for simple necess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ly half made enough money to return hom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mmigrants worked for the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ot sick from bad die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3232080"/>
            <a:ext cx="51944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Lived in Californi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Were often enslav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Georgia"/>
                <a:ea typeface="Georgia"/>
              </a:rPr>
              <a:t>Worked for miners in exchange for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Georgia"/>
                <a:ea typeface="Georgia"/>
              </a:rPr>
              <a:t>cloth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Rarely benefit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Lost 60% of their popu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Georgia"/>
                <a:ea typeface="Georgia"/>
              </a:rPr>
              <a:t>Violence towards them caused them 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Georgia"/>
                <a:ea typeface="Georgia"/>
              </a:rPr>
              <a:t> </a:t>
            </a:r>
            <a:r>
              <a:rPr b="0" lang="en-US" sz="2000" spc="-1" strike="noStrike">
                <a:solidFill>
                  <a:srgbClr val="363636"/>
                </a:solidFill>
                <a:latin typeface="Georgia"/>
                <a:ea typeface="Georgia"/>
              </a:rPr>
              <a:t>attack in retur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37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Learned to trad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7416720" y="907920"/>
            <a:ext cx="36194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Gill Sans"/>
                <a:ea typeface="Gill Sans"/>
              </a:rPr>
              <a:t>Native America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914400"/>
            <a:ext cx="2933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Gill Sans"/>
                <a:ea typeface="Gill Sans"/>
              </a:rPr>
              <a:t>Mine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52280" y="-825480"/>
            <a:ext cx="2463840" cy="33019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9715680" y="1380960"/>
            <a:ext cx="2349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9029880" y="3809880"/>
            <a:ext cx="3352680" cy="1600200"/>
          </a:xfrm>
          <a:prstGeom prst="rect">
            <a:avLst/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7823160" y="6477120"/>
            <a:ext cx="3225960" cy="1600200"/>
          </a:xfrm>
          <a:prstGeom prst="rect">
            <a:avLst/>
          </a:prstGeom>
          <a:solidFill>
            <a:srgbClr val="34343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8458200" y="1359000"/>
            <a:ext cx="2933640" cy="1396800"/>
          </a:xfrm>
          <a:prstGeom prst="rect">
            <a:avLst/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139680" y="5435640"/>
            <a:ext cx="3225960" cy="1600200"/>
          </a:xfrm>
          <a:prstGeom prst="rect">
            <a:avLst/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279360" y="1816200"/>
            <a:ext cx="2933640" cy="1396800"/>
          </a:xfrm>
          <a:prstGeom prst="rect">
            <a:avLst/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4013280" y="3517920"/>
            <a:ext cx="3352680" cy="1828800"/>
          </a:xfrm>
          <a:prstGeom prst="roundRect">
            <a:avLst>
              <a:gd name="adj" fmla="val 16667"/>
            </a:avLst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975120" y="6896160"/>
            <a:ext cx="2857320" cy="21351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46160" y="5556240"/>
            <a:ext cx="32256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laughtered Nativ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663120" y="2188080"/>
            <a:ext cx="1937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sea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3934800" y="4105800"/>
            <a:ext cx="349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ner’s Gre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8259840" y="1403280"/>
            <a:ext cx="33526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estroyed La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9112320" y="3930480"/>
            <a:ext cx="32511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oisoned Wa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7631280" y="6597720"/>
            <a:ext cx="3593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nslaved Nativ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7048440" y="529596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7340760" y="4648320"/>
            <a:ext cx="189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2921040" y="3022560"/>
            <a:ext cx="120636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276360" y="5207040"/>
            <a:ext cx="81252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264080" y="2705040"/>
            <a:ext cx="132084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$5.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Gill Sans"/>
              </a:rPr>
              <a:t>The Cursed Yellow Metal: Native Americans in the Gold Rush</a:t>
            </a:r>
            <a:endParaRPr b="0" lang="en-US" sz="7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resented by Kendall Jenning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-177840" y="5510160"/>
            <a:ext cx="4114800" cy="35211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7162920" y="5892840"/>
            <a:ext cx="424152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Objectiv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Student should be able to analyze the cruelty that miners used towards Native Americans in the 1849 Gold Rus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efore The Gold Rush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270080" y="2270160"/>
            <a:ext cx="10464840" cy="754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828800" y="-3240"/>
            <a:ext cx="8597880" cy="104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60%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Lands Destroyed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530520" y="6413400"/>
            <a:ext cx="2793960" cy="29084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216000" y="2552760"/>
            <a:ext cx="3886200" cy="25527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7493040" y="2895480"/>
            <a:ext cx="346716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ood as Well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015920" y="6438960"/>
            <a:ext cx="4305240" cy="24019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7035840" y="2641680"/>
            <a:ext cx="4064040" cy="40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